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888-E691-47C8-B6CF-B48CD839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387-369A-4125-991D-094104BB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90A44-1F8F-45B7-8E4E-6B7B4523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4E75D-7E8D-480A-BF77-C23DB90D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3C682-06F4-4AE3-B095-03FC70FF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CF550-DF31-489A-9D05-DBB2E30E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5B639-8EDB-4E0A-BC66-F4D6685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04B1F-9138-42D6-AAEF-C0D8CD69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AA60F-0F76-4A32-B866-17DF3E8F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06E91-075A-4093-A66E-54E53AF5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8BB14-C587-4A4B-9F04-C32FCCD5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94CA4-BF88-4521-A548-A97F69F1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8F8-5158-4B00-AEFD-A3564A57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1BBC4-A9B3-4D04-9BFA-E2245049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729C4-C13F-41FE-85F4-F0C27A0E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FA3CD-5463-4C35-9217-DF9E839A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99F0E-52CF-48DB-BA3E-7513AB8D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EA0DC-091A-4F88-8730-6C3E34F0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F1001-740B-4AE5-ABCA-DC60E817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E8FE9-9EF6-4ABF-A05E-77423AA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ED6D0-86E1-4776-84E6-A8066437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C7475-37B5-4777-9AFA-EE09CBA1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5B91A-D3FE-4377-ABAC-5E5DAF3D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AEB-3034-40A4-856B-DCFAAA66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B8AB0-7FED-4123-AA8C-27F1F76C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D0537-7829-410B-9EB9-FE1A58FD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D20D3-7671-453B-B364-82E7F3AB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3C60C-BD52-471D-87DB-5BE431DC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611AE-C752-4E80-909E-DE22347D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61664-27AE-4901-9E84-3D23A741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AB04C-9A62-464D-A4DD-B0CEA6DE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AF6EE-2562-4564-A391-97CF560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6799B-F346-445C-94DC-9B598C8F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26D5B-2ED0-43EA-9EAF-ABDF0AB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1CE0-1A9E-4A26-9930-1953311F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A422B-F08E-4184-92E0-E4942ED5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4257F-C66B-446E-97AB-9530547D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F77C0-E476-43D5-958B-6DE81CC9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78B27-A514-4951-93F2-B5B395AC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94B07-7515-4926-970C-D439C5CC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8D58F-BA09-4DC1-ACCD-8FD4A87E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ACE04-3364-4F3D-9444-8D8CB01D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F88CC-30A7-4B55-9A82-E5903C0F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3BF94-0CB9-4CF9-8BF1-050A3157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372F6-522E-4243-8810-732ADCD3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91FD-7EEB-4E0E-A7A8-D7F3582E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C576E-F569-4F3F-864F-3693105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C2A61-95BF-4376-BA63-A27DA88F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85B65-C10E-4464-9557-2447B850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943AC-1926-4722-B032-845F5D2F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AF017-41A0-41D0-870C-39FEE164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56F6-9290-4AA1-AAB8-123164A0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30BA-65DE-473D-AAD3-E7254A74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5A65-1694-4C51-892E-E2076E1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0005-45CE-4017-A3B8-0273FAF9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4486-5310-403A-BA14-ED438D42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108-B000-4F3A-B9AA-3D6BBA5C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81D6-8D01-4593-A28A-8CBEB7A0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8BBC-CFA3-44CE-8E19-FB4598C4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6C0F-954D-4A41-B775-0913B0F3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5E56-C844-44ED-B959-8ACFB337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0484-14A7-497C-B33B-D9B3B0BA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D962-0055-4716-B59C-AE65F382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57F1-0834-422B-A296-155B3B33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2682-44A9-4E78-A977-20E7A019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6DAB-19EC-4CEA-9EB3-EACA4D2B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78A1-0A68-47C8-97FB-C30BC6C1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359-B284-4130-AA29-77486669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82BB-5C83-4284-817E-649AE3B7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2EE7-3EAE-4835-89FA-886CDD75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05ED-B5F0-4751-9246-85D003E7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D2FD-8104-4CCD-8EA6-CCF9770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0834-E0FD-4E9B-A719-C612BC0B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FBB3-4FFA-4125-89B4-16CFB6FB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8F11-E684-40D9-BDCF-249FF9BD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7B04-E3FC-471F-925B-6613FA9E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5252-1804-4BCB-A256-B0D5D3D1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9AEC6-E749-4F0B-9489-2347B00D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364-FDCF-482C-BBB2-3A833FF1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C624-A9EF-4CD5-B09A-12FBA328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3A95-57D2-46C5-952B-233F75B8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4100-F877-4FED-8308-9881AD24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5A7C7-689B-417B-AA1A-58342950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037D-19CC-4227-99D0-7A825917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1FB1D-A170-45D2-B722-896CFAA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18C4-92E8-4C0D-9CD2-C80A2D3A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4C4B-CD7B-41FA-BE7D-134656B3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1DBD-61FA-4384-A918-91D1D7F9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5697-DC58-4E4D-9E4A-ECC663A3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195-A5BD-4775-B1AF-50827E00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E889-0DA5-4C06-884C-291C51D2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5896-A190-4ABB-9F71-9473AE32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30D0-3110-4F07-87E6-50958109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4FCA-5FF6-4EF4-B324-32FBDC2B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703E-F743-40E1-BF3C-CD9E0B62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70498-E7F0-4599-A9B4-FD7B7639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353F9-80C8-475E-939A-DD040073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B6413-5B01-47DA-A68A-E9BCD4C3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4B279-451F-4A34-8DEC-669902A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8483B-0493-42F5-8F19-764C52F7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1EE-0C76-4B81-A9CD-83E3F991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1AB4E-A0AF-4A0E-B5BF-60D21879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3DC6-BD4E-468A-803C-B8366C44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8B102-5200-4FF9-94D2-6F881F6D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08F01-B8ED-4639-AFB1-3F7DEC5E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413CE-44D9-4E40-A345-C0FC1363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317BE-0DFA-4798-AB99-4CC5D70A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A6D98-8B00-476C-834D-2979D683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D52A-A533-421C-849E-EB77EA6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DB3CC-0FD1-4035-A2B1-478657CC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2893F-74B3-493E-9947-5A4EF88C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22B-B374-4C8F-88B2-AD22E42A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3D3AF-0430-43A7-B476-BA36652D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86DAD-852F-4E0B-9F23-DD217FF6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A99E6-E177-477B-80AD-0EC75C58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ED5B7-90C8-4737-8BA2-4E099850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6451A-F484-44F8-8706-28A1B05D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9DBBE-4964-4E3E-969E-9437903A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7ADA5-8C8B-415D-84D5-2B6C35FB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2D097-E670-45ED-8403-5A5A58F7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848E1-3F24-431B-8DF7-F870DEEA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D3CF5-43B5-4258-9F61-6EAC736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43F-3F5D-4AFB-A726-8BC05E8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DA7C1-028B-4FB2-A1E2-5E745AC2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940F9-A30D-4179-9392-9A8623D3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B93C1-9C69-4027-98DF-09FA452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0F5CB-C7ED-4EA3-BA1F-1B7314AA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C0F9-8D04-46AB-979F-B123BECB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578A9-DEA8-40FA-8F1A-EE7E7C8D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B7A76-268A-467F-9EF4-9EC2E5F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16DAB-8C08-43B8-99F7-A022D531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11537-332B-406B-9506-CBE425DA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C8D14-D8F8-4B31-81EE-0DDB8B0B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E04-1575-405C-9353-693AAA4F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CE16B-A233-4CDF-BE20-D259A209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FEE9-F782-4CF5-83AD-42C59BC2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92BC7-13E2-4139-9E63-5505392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E86AC-0071-41C6-9864-C13F6039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B54A0-CBD8-4CF4-BB73-06F6625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0AE9B-E221-4BB0-A954-D590EC9B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3120-212F-467E-B9DF-E0E4F7AA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3B09F-5A90-4B83-A237-53420510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98F53-F888-44BD-BF2A-BBAFC8C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1E709-29D2-4CAF-8B57-8DEA0F9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1983-3D10-40D1-91C7-2F85891AD2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7EAB-A729-4F0F-9FEF-3B5CCEB4F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8216-F3B5-45F0-9A54-3D8D775BE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11FB-4075-4E13-A4C5-CC8199FCE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2734-4805-4437-A135-545E4799F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8443-C4A6-48C8-A55C-77404B1E06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37E5-5231-4883-83E3-239F970DF7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8D11-3689-424F-BEEB-946BA338D1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9575-1431-440C-A200-9CFB37BEA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A875-8831-40D3-BF1B-85ABADAA6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E484-2C5E-4476-B6A7-D2FE057114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9B60-B059-4197-9741-49AAC1FA3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JUAN PONCE DE LEON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&amp; CHRISTOPHER COLUMBU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The First Explorer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Juan Ponce de Leon.jpg"/>
          <p:cNvPicPr/>
          <p:nvPr/>
        </p:nvPicPr>
        <p:blipFill>
          <a:blip r:embed="rId1"/>
          <a:stretch/>
        </p:blipFill>
        <p:spPr>
          <a:xfrm>
            <a:off x="1828800" y="342900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Christopher Colombus.jpg"/>
          <p:cNvPicPr/>
          <p:nvPr/>
        </p:nvPicPr>
        <p:blipFill>
          <a:blip r:embed="rId2"/>
          <a:stretch/>
        </p:blipFill>
        <p:spPr>
          <a:xfrm>
            <a:off x="4876920" y="3429000"/>
            <a:ext cx="20574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Christopher Columbu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1492 Christopher Columbus and his crew sailed from Spain across the Atlantic Ocea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 the time, most Europeans thought it was impossible to get to Asia by sailing We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umbus knew he could get there that wa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he landed the thought he hit Asia, when really he reached North Americ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milar to Columbus’s Ship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Kortney\AppData\Local\Microsoft\Windows\Temporary Internet Files\Content.IE5\8A9IA92I\MPj02897200000[1].jpg"/>
          <p:cNvPicPr/>
          <p:nvPr/>
        </p:nvPicPr>
        <p:blipFill>
          <a:blip r:embed="rId1"/>
          <a:stretch/>
        </p:blipFill>
        <p:spPr>
          <a:xfrm>
            <a:off x="5181480" y="4419720"/>
            <a:ext cx="2971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Juan Ponce de Le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1513 Juan Ponce de Leon became the first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conquistador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 arrive to Florid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Conquistad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s the Spanish word for conqueror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was looking for new land and new resour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3" descr="Juan Ponce Signature.jpg"/>
          <p:cNvPicPr/>
          <p:nvPr/>
        </p:nvPicPr>
        <p:blipFill>
          <a:blip r:embed="rId1"/>
          <a:stretch/>
        </p:blipFill>
        <p:spPr>
          <a:xfrm>
            <a:off x="3657600" y="4343400"/>
            <a:ext cx="14479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Fountain of Yo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uan Ponce de Leon sailed to the New World in hopes of finding the Fountain of Youth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Fountain of Youth was said to have water that could make old people young agai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Users\Kortney\AppData\Local\Microsoft\Windows\Temporary Internet Files\Content.IE5\YEMLWLG3\MCj02373720000[1].wmf"/>
          <p:cNvPicPr/>
          <p:nvPr/>
        </p:nvPicPr>
        <p:blipFill>
          <a:blip r:embed="rId1"/>
          <a:stretch/>
        </p:blipFill>
        <p:spPr>
          <a:xfrm>
            <a:off x="3352680" y="3886200"/>
            <a:ext cx="22590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Juan Ponce de Le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nce de Leon landed on the Florida coast near the city of St. Augustin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named the land “la Florida” which means “land of the flowers” in Spanis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then sailed south around the tip of Florida to the Gulf of Mexic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Users\Kortney\AppData\Local\Microsoft\Windows\Temporary Internet Files\Content.IE5\YEMLWLG3\MCj01895890000[1].jpg"/>
          <p:cNvPicPr/>
          <p:nvPr/>
        </p:nvPicPr>
        <p:blipFill>
          <a:blip r:embed="rId1"/>
          <a:stretch/>
        </p:blipFill>
        <p:spPr>
          <a:xfrm>
            <a:off x="3276720" y="4800600"/>
            <a:ext cx="24382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Juan Ponce de Le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ral years later Ponce de Leon made another trip to Florid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wanted to build a settlement but battled with the Calusa Indians for their la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attacked the Spanish  as they began to build on their settlement and grow crop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nce de Leon was wounded and then taken to Cuba where he later died from his woun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5" descr="C:\Users\Kortney\AppData\Local\Microsoft\Windows\Temporary Internet Files\Content.IE5\8A9IA92I\MCj03596470000[1].wmf"/>
          <p:cNvPicPr/>
          <p:nvPr/>
        </p:nvPicPr>
        <p:blipFill>
          <a:blip r:embed="rId1"/>
          <a:stretch/>
        </p:blipFill>
        <p:spPr>
          <a:xfrm>
            <a:off x="6629400" y="4648320"/>
            <a:ext cx="1373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3:00:24Z</dcterms:created>
  <dc:creator>Kortney Langes</dc:creator>
  <dc:description/>
  <dc:language>en-US</dc:language>
  <cp:lastModifiedBy>Kortney Langes</cp:lastModifiedBy>
  <dcterms:modified xsi:type="dcterms:W3CDTF">2009-12-03T05:00:51Z</dcterms:modified>
  <cp:revision>13</cp:revision>
  <dc:subject/>
  <dc:title>The First Explorers</dc:title>
</cp:coreProperties>
</file>